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7F60-41C3-4A66-AAB7-1C42FA80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363-603F-4824-96C8-4EC17186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913-7974-4AAA-B6FC-B5AE293C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C8A9-377C-4675-B7B5-BB19D45A7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DA62-092D-4350-8D10-CD5D379E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2D9-370A-4AAA-952C-FB007907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B2A-65DD-45E9-96E7-5C7CCF96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078-6682-4D20-BCC4-DEE607EA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EFA6-A19D-4E45-9CE1-0387127D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0EB-B350-41F7-8C26-7406773B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3978-7C93-44BC-A016-8244A2C9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E33-1C7A-47B6-8A7D-0516557B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3E38-9EA2-489F-9CF2-5E8EE721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1280" y="620640"/>
          <a:ext cx="3743280" cy="5543640"/>
        </p:xfrm>
        <a:graphic>
          <a:graphicData uri="http://schemas.openxmlformats.org/drawingml/2006/table">
            <a:tbl>
              <a:tblPr/>
              <a:tblGrid>
                <a:gridCol w="1871640"/>
                <a:gridCol w="1871640"/>
              </a:tblGrid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an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b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o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wa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tha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t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th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00"/>
                          </a:solidFill>
                          <a:latin typeface="Vic Mod Cursive"/>
                        </a:rPr>
                        <a:t>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57140640" y="-36360"/>
          <a:ext cx="4751280" cy="6930720"/>
        </p:xfrm>
        <a:graphic>
          <a:graphicData uri="http://schemas.openxmlformats.org/drawingml/2006/table">
            <a:tbl>
              <a:tblPr/>
              <a:tblGrid>
                <a:gridCol w="2149560"/>
                <a:gridCol w="2601720"/>
              </a:tblGrid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b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sa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ic Mod Cursive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4859280" y="738360"/>
          <a:ext cx="4140360" cy="6119640"/>
        </p:xfrm>
        <a:graphic>
          <a:graphicData uri="http://schemas.openxmlformats.org/drawingml/2006/table">
            <a:tbl>
              <a:tblPr/>
              <a:tblGrid>
                <a:gridCol w="1873080"/>
                <a:gridCol w="2267280"/>
              </a:tblGrid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b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h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sa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w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Vic Mod Cursive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5798520" y="189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d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7240" y="333360"/>
            <a:ext cx="153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olden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an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b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d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g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if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me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my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no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or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500" spc="-1" strike="noStrike">
                          <a:solidFill>
                            <a:srgbClr val="0066ff"/>
                          </a:solidFill>
                          <a:latin typeface="Vic Mod Cursive"/>
                        </a:rPr>
                        <a:t>up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4788000" y="765000"/>
          <a:ext cx="3960720" cy="5688000"/>
        </p:xfrm>
        <a:graphic>
          <a:graphicData uri="http://schemas.openxmlformats.org/drawingml/2006/table">
            <a:tbl>
              <a:tblPr/>
              <a:tblGrid>
                <a:gridCol w="2098440"/>
                <a:gridCol w="1862280"/>
              </a:tblGrid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big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ca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di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h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g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hi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ne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now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f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ld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u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ou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se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sh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tw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cc33"/>
                          </a:solidFill>
                          <a:latin typeface="Vic Mod Cursive"/>
                        </a:rPr>
                        <a:t>wh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406520" y="981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blu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7960" y="260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gree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4360" y="836640"/>
          <a:ext cx="3527280" cy="583236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5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back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l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be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jus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int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ca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fr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dow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mad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the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muc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ove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th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w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we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9900"/>
                          </a:solidFill>
                          <a:latin typeface="Vic Mod Cursive"/>
                        </a:rPr>
                        <a:t>w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4500720" y="907920"/>
          <a:ext cx="4464000" cy="5687640"/>
        </p:xfrm>
        <a:graphic>
          <a:graphicData uri="http://schemas.openxmlformats.org/drawingml/2006/table">
            <a:tbl>
              <a:tblPr/>
              <a:tblGrid>
                <a:gridCol w="2072160"/>
                <a:gridCol w="2391840"/>
              </a:tblGrid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cal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then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com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wer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her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wha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mak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will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9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must</a:t>
                      </a:r>
                      <a:endParaRPr b="0" lang="en-US" sz="3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your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8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only</a:t>
                      </a:r>
                      <a:endParaRPr b="0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100" spc="-1" strike="noStrike">
                          <a:solidFill>
                            <a:srgbClr val="333399"/>
                          </a:solidFill>
                          <a:latin typeface="Vic Mod Cursive"/>
                        </a:rPr>
                        <a:t>some</a:t>
                      </a: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5870880" y="40464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digo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7240" y="3333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orang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18920" y="189000"/>
            <a:ext cx="577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Arial"/>
              </a:rPr>
              <a:t>Viole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26920" y="1052640"/>
          <a:ext cx="4105440" cy="5184720"/>
        </p:xfrm>
        <a:graphic>
          <a:graphicData uri="http://schemas.openxmlformats.org/drawingml/2006/table">
            <a:tbl>
              <a:tblPr/>
              <a:tblGrid>
                <a:gridCol w="2052720"/>
                <a:gridCol w="205272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abou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righ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befo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whi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cou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wh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fir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wa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litt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the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look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66ff"/>
                          </a:solidFill>
                          <a:latin typeface="Vic Mod Cursive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1:53:50Z</dcterms:created>
  <dc:creator>01690112</dc:creator>
  <dc:description/>
  <dc:language>en-US</dc:language>
  <cp:lastModifiedBy>01690112</cp:lastModifiedBy>
  <dcterms:modified xsi:type="dcterms:W3CDTF">2009-07-14T12:06:58Z</dcterms:modified>
  <cp:revision>2</cp:revision>
  <dc:subject/>
  <dc:title>Slide 1</dc:title>
</cp:coreProperties>
</file>